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88E9-E5F8-4E25-9F9B-9D2A3F22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EF55-83E8-4BFE-8861-F16A4265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FAC7-CB86-4734-9917-A6CE9296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4F4-9039-431B-A5F8-06AACB9B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D18F-C339-4495-A70A-D77671D2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565-7267-42CE-A5C4-19C2240D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F5C6-E5A8-498F-AEE2-90C75B5D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7EC-DB86-4FEF-9EAB-77701FE8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5737-37D9-49F8-89E6-BB546278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777E-BC39-418D-B1FB-F497F441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3CF-B6F8-45FB-BAD1-3065AC13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210-DAE7-4195-BE5E-66432891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5C88-E8E5-4388-91F3-ADD3B6F82D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Диаграмма 3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497800" cy="568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24000" y="189000"/>
            <a:ext cx="338796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№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8T09:20:29Z</dcterms:created>
  <dc:creator>user</dc:creator>
  <dc:description/>
  <dc:language>en-US</dc:language>
  <cp:lastModifiedBy>User</cp:lastModifiedBy>
  <dcterms:modified xsi:type="dcterms:W3CDTF">2016-12-28T20:43:46Z</dcterms:modified>
  <cp:revision>6</cp:revision>
  <dc:subject/>
  <dc:title>Презентация PowerPoint</dc:title>
</cp:coreProperties>
</file>